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4.jpeg" ContentType="image/jpeg"/>
  <Override PartName="/ppt/media/image2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jpeg" ContentType="image/jpeg"/>
  <Override PartName="/ppt/media/image15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2963525" cy="8640763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6A41-393A-4190-909B-7800EF469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46200" y="499392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FBEA-573D-42EA-8DD6-13189B41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6258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CD21-F56A-4EEE-81DE-65DB89917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18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5374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462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918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5374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A04B-69F6-408E-A96B-CC20B0F9A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8440-1D6E-4F17-B630-55118F21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A9F1-871A-47C8-B31C-C3978808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62C7-1355-40A9-9FEC-A78D5AF0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A4C0-DDA3-48F2-A5CC-62FDD19D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46200" y="347400"/>
            <a:ext cx="11669760" cy="66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025C-86AA-49CE-85A2-D0B68230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8328-3345-4BE9-AC89-AF552C16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258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6A24-33F7-478E-A643-AB3EAE03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5D7C-7541-40B1-B366-CA908532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marL="461880" indent="-46188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1003320" indent="-38592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0636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3" marL="2160720" indent="-30960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4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5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6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5840" y="7870320"/>
            <a:ext cx="3025800" cy="598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27640" y="0"/>
            <a:ext cx="4106880" cy="59832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1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289800" y="7870320"/>
            <a:ext cx="3025800" cy="598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 algn="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fld id="{93D48062-81D8-42C4-B53E-5149DA23C6DE}" type="slidenum">
              <a:rPr b="0" lang="cs-CZ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107928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e2e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838080"/>
            <a:ext cx="11034720" cy="2438640"/>
          </a:xfrm>
          <a:prstGeom prst="rect">
            <a:avLst/>
          </a:prstGeom>
          <a:solidFill>
            <a:srgbClr val="6d1543"/>
          </a:solidFill>
          <a:ln w="9360">
            <a:solidFill>
              <a:srgbClr val="ffffff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7200" spc="-1" strike="noStrike">
                <a:solidFill>
                  <a:srgbClr val="fbfadd"/>
                </a:solidFill>
                <a:latin typeface="Arial"/>
              </a:rPr>
              <a:t>Kulturní zájmy a potřeby</a:t>
            </a:r>
            <a:br>
              <a:rPr sz="7200"/>
            </a:br>
            <a:r>
              <a:rPr b="1" lang="en-US" sz="4000" spc="-1" strike="noStrike">
                <a:solidFill>
                  <a:srgbClr val="fbfadd"/>
                </a:solidFill>
                <a:latin typeface="Arial"/>
              </a:rPr>
              <a:t>obyvatel hlavního města Pra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99840" y="7162560"/>
            <a:ext cx="9753480" cy="1066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Prezentace pro setkání představitelů pražské kulturní obce dne 14. 1.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STEM" descr=""/>
          <p:cNvPicPr/>
          <p:nvPr/>
        </p:nvPicPr>
        <p:blipFill>
          <a:blip r:embed="rId1"/>
          <a:stretch/>
        </p:blipFill>
        <p:spPr>
          <a:xfrm>
            <a:off x="4800600" y="3657600"/>
            <a:ext cx="3124080" cy="328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28FB-AAF3-45B7-9859-7A9F0CECBCD3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111492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Reference od známých jsou základ.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Internetu patří nejenom budoucnost, ale i současn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1600200"/>
            <a:ext cx="112014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Řekněte mi, odkud čerpáte informace o možnostech kulturního vyžití v Praze?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5440" y="2328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85920" y="2016000"/>
          <a:ext cx="9937800" cy="642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85920" y="2016000"/>
                    <a:ext cx="9937800" cy="642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0278-49F3-4A4F-A4E0-80F1CF9FA37C}" type="slidenum">
              <a:t>10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11201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Některé z pražských kulturních projektů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se staly pojmy, které zná větši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1600200"/>
            <a:ext cx="118872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ní Vám budu postupně číst různé konkrétní akce či 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y mi prosím řekněte, zda je znáte?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03600" y="2295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22120" y="2797200"/>
          <a:ext cx="6407280" cy="561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2120" y="2797200"/>
                    <a:ext cx="640728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3603600" y="2295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518160" y="2684520"/>
          <a:ext cx="6283440" cy="5452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18160" y="2684520"/>
                    <a:ext cx="628344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0753-C703-4EB6-9D1F-4C7BB588C869}" type="slidenum">
              <a:t>11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Vnímání nabídky v oblasti kultu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D8F5-7126-4904-9507-C7F16B444EA0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1151424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Nabídka kultury v Praze je pestrá. </a:t>
            </a:r>
            <a:br>
              <a:rPr sz="3600"/>
            </a:b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Významný nedostatek z hlediska rozmanitosti neexistu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2330280"/>
            <a:ext cx="6400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slíte si, že je nabídka kulturních pořadů a akcí v  Praze dostatečně rozmanitá?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62120" y="3276720"/>
          <a:ext cx="5873760" cy="487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629400" y="320040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320040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6705720" y="1905120"/>
            <a:ext cx="5867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ní mi laskavě řekněte, zda je ještě něco jiného, co Vy osobně v nabídce kulturních akcí, pořadů či v oblasti kultury a umění v Praze postrádát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C017-C811-45E1-8019-9F5691683EA4}" type="slidenum">
              <a:t>13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2040" y="380880"/>
            <a:ext cx="11669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Jak hodnotí Pražané rozsah nabídky v kultuř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03600" y="2652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03600" y="2581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98920" y="3096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03600" y="28335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23623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28195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98920" y="85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3200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98920" y="204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03600" y="8809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286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6019920"/>
            <a:ext cx="6477120" cy="213336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a poptávka v rovnov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mová představení v klubových kin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mediální projek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neční a balet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bídka odborných kniho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838080"/>
            <a:ext cx="57150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ff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6699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6699ff"/>
                </a:solidFill>
                <a:latin typeface="Arial"/>
              </a:rPr>
              <a:t>Hodnotí 60 - 70 % obyva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2057400"/>
            <a:ext cx="6477120" cy="3657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optávka spíše vyšší než nabíd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adelní představení pro dě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iné kulturně vzdělávací pořady pro dě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moderní alternativ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ředstavení alternativních divadelních scén  a klub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amatérských uměl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prezentující lidovou kul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erární pořady, autorská čtení, pás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666880"/>
            <a:ext cx="5257800" cy="281952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a poptávka v rovnov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ředstavení klasických diva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eální expoz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erijní či jiné výstavy um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5791320"/>
            <a:ext cx="5257800" cy="2133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spíše vyšší než poptáv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mová představení v multikinech, kin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iká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74960" y="1295280"/>
            <a:ext cx="540936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Hodnotí 85 - 95 % obyvatel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9999"/>
                </a:solidFill>
                <a:latin typeface="Symbol"/>
                <a:ea typeface="Symbol"/>
              </a:rPr>
              <a:t>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08D9-A8F0-43A8-8CD4-384634EECFD8}" type="slidenum">
              <a:t>14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125046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Příklady posuzování rozsahu nabídky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kulturních pořadů v hlavním městě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1905120"/>
            <a:ext cx="114300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u Vám nyní číst nabídku jednotlivých druhů kulturních pořadů, akcí a 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y mi, prosím, řekněte, zda máte poci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e některých je málo,  je jich přiměřeně a nebo je jich až moc.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809640" y="3111480"/>
          <a:ext cx="11255400" cy="479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640" y="3111480"/>
                    <a:ext cx="11255400" cy="47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0DE7-848C-4D6A-9437-2ED8341675BC}" type="slidenum">
              <a:t>15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Kulturní zájmy a návštěv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0384-55E0-443D-A5F0-6A816FAD5896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1189512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Hierarchie zájmu o kulturní oblast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1316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676520" y="2590920"/>
          <a:ext cx="10210680" cy="565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2590920"/>
                    <a:ext cx="10210680" cy="56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Řekněte mi, prosím, jaký je Váš vztah k jednotlivým oblastem v kultuř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moc se o jednotlivé kulturní akce v těchto oblastech zajímát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841B-3E76-48E3-A263-4E35FDA1BD82}" type="slidenum">
              <a:t>17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Zájem generací o jednotlivé druhy umění je různ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70120" y="24382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286000" y="2438280"/>
          <a:ext cx="8991720" cy="581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2438280"/>
                    <a:ext cx="8991720" cy="58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jem o jednotlivé kulturní oblasti podle vě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čet odpovědí „Velmi se zajímám“ + „Poměrně se zajímám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C60C-D31A-44F7-B432-AA614D24071A}" type="slidenum">
              <a:t>18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92040" y="380880"/>
            <a:ext cx="11669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Jak často vyrazí Pražané za kulturou?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03600" y="2652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03600" y="2581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98920" y="3096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03600" y="28335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23623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57400" y="28195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98920" y="85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05520" y="3200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98920" y="204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603600" y="8809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57400" y="2286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3200400"/>
            <a:ext cx="11049120" cy="20574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ikálová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ubová kina, filmové klu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rní alternativní divadelní scény, klu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klasické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5410080"/>
            <a:ext cx="11049120" cy="2819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borné knihov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moderní alternativ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amatérských uměl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prezentující lidovou kul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erární kluby, pásma, več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adelní a jiné kulturně vzdělávací programy pro dě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mediální projekty, taneční a balet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64280" y="3276720"/>
            <a:ext cx="7416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95280" y="1371600"/>
            <a:ext cx="11049120" cy="167652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kina, k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řejné knihovny, muz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asická divadel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erie či výstavy výtvarného um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850520" y="1701720"/>
            <a:ext cx="4493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íce než polov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álně  jednou za 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64280" y="5940360"/>
            <a:ext cx="9108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010280" y="1447920"/>
            <a:ext cx="106704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30680" y="6257880"/>
            <a:ext cx="34282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íce než polovin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ůbec nik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850520" y="3683160"/>
            <a:ext cx="4493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5 – 45 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álně  jednou za 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2A97-F09A-4115-9B30-52611134E500}" type="slidenum">
              <a:t>19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Základní informace o výzkumu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8682-8DC3-4A78-B4C2-8C86915E0F8F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1174248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Příklady návštěvnosti kulturních pořadů a zařízení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mezi obyvateli Prahy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204156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myslete se, prosím, nad letošním rokem a řekněte mi, jak často obvy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tlivé kulturní akce či zařízení navštěvujete.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809640" y="3111480"/>
          <a:ext cx="11255400" cy="45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640" y="3111480"/>
                    <a:ext cx="112554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D1AC-BC22-4900-A3B1-6FB9A7CAF11D}" type="slidenum">
              <a:t>20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Bariéry účasti na kulturním život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A26E-1BD3-4557-BC52-9583097B213D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115297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e každý může za kulturou, jak by chtěl. 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Lidé tvrdí, že „chybí“ volný čas nebo peníze.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93880" y="2128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7696080"/>
            <a:ext cx="1104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6492960" y="3098880"/>
          <a:ext cx="6143400" cy="444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92960" y="3098880"/>
                    <a:ext cx="614340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6324480" y="1981080"/>
            <a:ext cx="655344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u Vás převládá pocit, že nemůžete navštěvovat různé kulturní akce a zařízení ta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byste chtěl(a), co je podle Vá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bvykle hlavní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ůvodem?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380880" y="3014640"/>
            <a:ext cx="5639040" cy="46785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228600" y="2057400"/>
            <a:ext cx="60958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yž to vezmeme všechno dohromady, můžete se návštěvám různých kulturních akcí a zařízení věnovat tak, jak byste chtěl(a):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A27E-1508-4A3B-A534-3607210322E8}" type="slidenum">
              <a:t>22</a:t>
            </a:fld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rahá připadají lidem kina, divadla, koncerty.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Pro většinu lidí není problém místo konání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682640" y="3048120"/>
          <a:ext cx="10302840" cy="517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82640" y="3048120"/>
                    <a:ext cx="10302840" cy="51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"/>
          <p:cNvSpPr/>
          <p:nvPr/>
        </p:nvSpPr>
        <p:spPr>
          <a:xfrm>
            <a:off x="533520" y="1905120"/>
            <a:ext cx="121917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hodnotíte dosažitelnost a cenovou přijatelnost následujících kulturních zařízení v Praze? Pokud jde o jejich dosažitelnost z místa, kde bydlí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jde o jejich cenovou přijatelnost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E2EC-2152-4C1C-9FAE-5F85DA42D89A}" type="slidenum">
              <a:t>23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ejstarší generace má problémy: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ostupné jsou pro většinu z nich jen knihovn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71600" y="1828800"/>
            <a:ext cx="112014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hodnotíte dosažitelnost a cenovou přijatelnost následujících kulturních zařízení v Praze? Pokud jde o jejich cenovou přijatelnost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oučet odpovědí „Zcela přijatelné + „Spíše přijatelné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56000" y="2262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984320" y="2971800"/>
          <a:ext cx="9445680" cy="541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4320" y="2971800"/>
                    <a:ext cx="9445680" cy="54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142F-B4E4-476A-9F2B-B9EFF25395BE}" type="slidenum">
              <a:t>24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973080" y="320040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ctr">
            <a:noAutofit/>
          </a:bodyPr>
          <a:p>
            <a:pPr algn="ctr"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Shrnutí a závě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B678-8ED4-4D7B-88EA-4347C505D2DE}" type="slidenum">
              <a:t>25</a:t>
            </a:fld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ha jako kulturní cent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66680" y="3429000"/>
            <a:ext cx="1127772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ražané řadí Prahu mezi nejvýznamnější evropská kulturní centra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66680" y="5943600"/>
            <a:ext cx="1127772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Obyvatelé města oceňují možnosti v oblasti kultury jako jednu z největší předností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7620-0A96-4BCF-965D-7D4C0FECF840}" type="slidenum">
              <a:t>26</a:t>
            </a:fld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ha jako kulturní cent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66680" y="3429000"/>
            <a:ext cx="1127772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formace o kulturní nabídce v Praze nescházejí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66680" y="5943600"/>
            <a:ext cx="1127772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Kulturní život v hlavním městě nemá zásadní omezení na straně nabídky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C619-439F-4113-BB11-AB329B61FCDA}" type="slidenum">
              <a:t>27</a:t>
            </a:fld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ojekce kulturní „spotřeby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066680" y="3352680"/>
            <a:ext cx="11277720" cy="18288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zi Pr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any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nedojde v horizontu 15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 let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v oblasti kulturních zájmů a potřeb k významným změnám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066680" y="5867280"/>
            <a:ext cx="11277720" cy="18288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738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ojde k p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k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ní vlivu demografického stárnutí a zlepšující se úrovn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 celkové vzd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lanosti Pr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an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4298-366F-4AC0-BA82-0015491A207C}" type="slidenum">
              <a:t>28</a:t>
            </a:fld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ojekce kulturní „spotřeby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43000" y="3276720"/>
            <a:ext cx="11125080" cy="19047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962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Mírné ne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dostatk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y ve struktuře nabídky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 se sice výrazn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 neprohloubí, avšak ani neustoupí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43000" y="5791320"/>
            <a:ext cx="11125080" cy="19047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Rozvírání nůžek mezi lidmi s větším a menším zájmem o kulturu může způsobit nepříznivý ekonomický vývoj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F7BF-E81D-412B-8795-62D778E9C4ED}" type="slidenum">
              <a:t>29</a:t>
            </a:fld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6800"/>
            <a:ext cx="11950560" cy="710712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marL="1143000" indent="0">
              <a:spcAft>
                <a:spcPts val="1400"/>
              </a:spcAft>
              <a:buNone/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yp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vantitativní  reprezentativních še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í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ílová skupina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byvatelé Prahy starší 15 let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toda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vótní vý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 podle kritérií pohlaví,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u, vzd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ání a 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ských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ástí</a:t>
            </a:r>
            <a:br>
              <a:rPr sz="2800"/>
            </a:br>
            <a:r>
              <a:rPr b="1" lang="cs-CZ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ka dotazování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andardizované osobní rozhovory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vedené školenými tazateli STEM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rmín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2.11. – 2.12. 2004</a:t>
            </a:r>
            <a:br>
              <a:rPr sz="2800"/>
            </a:br>
            <a:r>
              <a:rPr b="1" lang="cs-CZ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ýsledný soubor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850 responden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FDD1-E7EA-4E6A-990A-069E61AA15AF}" type="slidenum">
              <a:t>3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33"/>
            </a:gs>
            <a:gs pos="50000">
              <a:srgbClr val="8c043b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47560" y="5638680"/>
            <a:ext cx="10591560" cy="2438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f8f0cc"/>
                </a:solidFill>
                <a:latin typeface="Arial"/>
              </a:rPr>
              <a:t>Přejeme mnoho úspěchů </a:t>
            </a:r>
            <a:br>
              <a:rPr sz="4800"/>
            </a:br>
            <a:r>
              <a:rPr b="1" lang="en-US" sz="4800" spc="-1" strike="noStrike">
                <a:solidFill>
                  <a:srgbClr val="f8f0cc"/>
                </a:solidFill>
                <a:latin typeface="Arial"/>
              </a:rPr>
              <a:t>a děkujeme za pozor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STEM" descr=""/>
          <p:cNvPicPr/>
          <p:nvPr/>
        </p:nvPicPr>
        <p:blipFill>
          <a:blip r:embed="rId1"/>
          <a:stretch/>
        </p:blipFill>
        <p:spPr>
          <a:xfrm>
            <a:off x="4572000" y="762120"/>
            <a:ext cx="3597120" cy="39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39C9-84B2-48F2-A937-F2A6DCD254D8}" type="slidenum">
              <a:t>30</a:t>
            </a:fld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žané a kultu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38360" y="2666880"/>
            <a:ext cx="10553760" cy="5105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txBody>
          <a:bodyPr lIns="123480" rIns="123480" tIns="61560" bIns="61560" anchor="t">
            <a:normAutofit/>
          </a:bodyPr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ké je místo kultury v životě Pražanů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sou Pražané v oblasti kultury informovan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 nabídka kultury dostatečně rozmanit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 Pražany v kultuře zajímá a kam chod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mění se v nejbližších letech potřeby veřejnosti   v oblasti kultu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E6DB-42C8-454A-A3EF-4B5408844E20}" type="slidenum">
              <a:t>4</a:t>
            </a:fld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Místo kultury v životě Pražan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2C48-0404-4A95-A5A9-34FC5CE40681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114411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Kultura není v životním stylu Pražanů prioritou.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316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hlédněte si, prosím, seznam životních stylů a vyberte postupně tř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teré jsou Vám nejbližší. Stanovte pořadí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79840" y="23144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362320" y="2438280"/>
          <a:ext cx="8610480" cy="595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2438280"/>
                    <a:ext cx="8610480" cy="59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46BC-74A0-46DC-AFDE-C6EA79FA1965}" type="slidenum">
              <a:t>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115297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Těsnější vazbu ke kultuře 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má jen poměrně malý podíl Pražan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3880" y="2128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7696080"/>
            <a:ext cx="1104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905120"/>
            <a:ext cx="601992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yž se srovnáte s jinými lidmi Vašeho věku, jak často ve srovnání s nimi navštěvujete různé kulturní akce a zařízení?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22600" y="278136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7984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3200400"/>
          <a:ext cx="5029200" cy="432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200400"/>
                    <a:ext cx="50292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380880" y="2209680"/>
            <a:ext cx="5410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lupodílel(a) jste se v posledním roce na nějaké kulturní akci, projektu: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400800" y="312408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00800" y="312408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CB24-D8C2-4FC8-8C9A-4AD4855A72E8}" type="slidenum">
              <a:t>7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Informovanost o kultuř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6B09-64AA-4503-8364-009DCA1ABE8A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457200"/>
            <a:ext cx="110491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Informací o kulturní nabídce je dost.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V</a:t>
            </a: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ětšina Pražanů si myslí, že má dostatečný přeh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224080"/>
            <a:ext cx="6400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podle Vás snadné získat dostatek informací o kulturní nabídce v hlavním městě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2254320"/>
            <a:ext cx="58672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slíte si, že máte dostatečný přeh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nabídce kultury v Praz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2120" y="3276720"/>
          <a:ext cx="5873760" cy="487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629400" y="320040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320040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FA43-49B1-40B0-A6E4-FF53E8F8CD0A}" type="slidenum">
              <a:t>9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08:22:19Z</dcterms:created>
  <dc:creator>Sýkorová</dc:creator>
  <dc:description/>
  <dc:language>en-US</dc:language>
  <cp:lastModifiedBy>sykorova</cp:lastModifiedBy>
  <dcterms:modified xsi:type="dcterms:W3CDTF">2005-01-12T16:55:05Z</dcterms:modified>
  <cp:revision>360</cp:revision>
  <dc:subject/>
  <dc:title>Hlavní město Praha - portrét roku 2004</dc:title>
</cp:coreProperties>
</file>